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CA1-F37A-4022-98FE-3088EF2B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903-61A9-4032-B2D9-2BD495FE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66A-E5CC-4637-B8CC-6DC47EB7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8BB1-AA17-491A-8390-BBB9C818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B073-C048-4067-AED6-3B2D7ACA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A8E-0F77-4F1B-B8AD-73DFCC87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5771-57C1-45D4-94D2-70320140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2D4-114D-47FE-AB9A-7B6C38F7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088-81BB-4738-A1AC-1BA21863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B35-495E-4078-B758-EE5D5A3B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E402-2F0C-4DFB-BBB8-E43B0C89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25D-9F33-496F-8398-66F1F7C8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87F7-036C-4371-95A3-6F18948C5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82960" y="5778360"/>
            <a:ext cx="523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standards de qualific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ituation à un moment donné - - et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16360" y="255096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accep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16360" y="3160800"/>
            <a:ext cx="1195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lar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285588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1640" y="2550960"/>
            <a:ext cx="77472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ery b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346536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nger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377028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r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10200" y="33130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10200" y="36180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10200" y="39225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terogene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10200" y="42274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spa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10200" y="45324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10200" y="48369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0200" y="51418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 maste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10200" y="20937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satisfa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0200" y="23986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e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10200" y="11793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occupy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10200" y="14842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ri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10200" y="17892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orry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10200" y="27036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g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10200" y="30081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licate/Tric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35480" y="1179360"/>
            <a:ext cx="774720" cy="427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3880" y="5815080"/>
            <a:ext cx="63248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standards de qualific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ituation à un moment donné + et +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1000" y="29732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xcel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1000" y="327816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mark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39920" y="1449360"/>
            <a:ext cx="11955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ui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39920" y="20588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84520" y="2978280"/>
            <a:ext cx="906480" cy="90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ery 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7000" y="1449360"/>
            <a:ext cx="77292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39920" y="236376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mogene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39920" y="2668680"/>
            <a:ext cx="1195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39920" y="29732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39920" y="327816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a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39920" y="3583080"/>
            <a:ext cx="1195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ic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39920" y="4040280"/>
            <a:ext cx="1195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39920" y="43448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atis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39920" y="4649760"/>
            <a:ext cx="11955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und/Abo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1000" y="3583080"/>
            <a:ext cx="1195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sta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22360" y="5935320"/>
            <a:ext cx="6424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standards de qualific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ituation en évolu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17680" y="1359000"/>
            <a:ext cx="5719680" cy="3938400"/>
            <a:chOff x="1417680" y="1359000"/>
            <a:chExt cx="5719680" cy="3938400"/>
          </a:xfrm>
        </p:grpSpPr>
        <p:sp>
          <p:nvSpPr>
            <p:cNvPr id="81" name=""/>
            <p:cNvSpPr/>
            <p:nvPr/>
          </p:nvSpPr>
          <p:spPr>
            <a:xfrm>
              <a:off x="1417680" y="4622760"/>
              <a:ext cx="2132280" cy="67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onsistently improv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+ to ++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49960" y="4611600"/>
              <a:ext cx="12664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gr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17680" y="4162320"/>
              <a:ext cx="2132280" cy="44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Improv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- to +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49960" y="41544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ov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17680" y="3705120"/>
              <a:ext cx="2132280" cy="44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At a standsti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- or +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49960" y="36972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tion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17680" y="2797200"/>
              <a:ext cx="2132280" cy="9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Worse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+ to -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49960" y="27828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eake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17680" y="1359000"/>
              <a:ext cx="2132280" cy="142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Getting consistant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wo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- to --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49960" y="1359000"/>
              <a:ext cx="1266480" cy="50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f cou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49960" y="32400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te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49960" y="1868400"/>
              <a:ext cx="12664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lling ap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49960" y="2173320"/>
              <a:ext cx="1266480" cy="62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teriora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48600" y="14875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tre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48600" y="17924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ortant/Gr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48600" y="20970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48600" y="24019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r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48600" y="27068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rman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48600" y="33163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onsider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48600" y="48402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nu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48600" y="36212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ignifica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48600" y="39258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od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48600" y="42307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Notice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48600" y="45356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ligh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48600" y="30114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l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6171840"/>
            <a:ext cx="77724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termes de hiérarchis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160" y="368280"/>
            <a:ext cx="8651880" cy="5486400"/>
            <a:chOff x="281160" y="368280"/>
            <a:chExt cx="8651880" cy="5486400"/>
          </a:xfrm>
        </p:grpSpPr>
        <p:sp>
          <p:nvSpPr>
            <p:cNvPr id="108" name=""/>
            <p:cNvSpPr/>
            <p:nvPr/>
          </p:nvSpPr>
          <p:spPr>
            <a:xfrm>
              <a:off x="281160" y="1739880"/>
              <a:ext cx="12664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xplain another id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160" y="3111480"/>
              <a:ext cx="12664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f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Si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ca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35320" y="1739880"/>
              <a:ext cx="12668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the consequence of another id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35320" y="3111480"/>
              <a:ext cx="126684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s a resu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Consequent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eref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at is wh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at is the reas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87680" y="1739880"/>
              <a:ext cx="140796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opposed to another idea, or make a conc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87680" y="3111480"/>
              <a:ext cx="14079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ven 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Howe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Neverthel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the other h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xcept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Despite the fact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spite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26160" y="1739880"/>
              <a:ext cx="14068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situated in time compared with an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6160" y="3111480"/>
              <a:ext cx="14068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irst of all….Second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irstly… Last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itially… Then…Fin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the one hand… On the 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Yesterday, Today, Tomorr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19640" y="1739880"/>
              <a:ext cx="12654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added to an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19640" y="3111480"/>
              <a:ext cx="126540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qu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urtherm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More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add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l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si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top of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1840" y="1739880"/>
              <a:ext cx="13366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the final outcome of previous id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1840" y="3111480"/>
              <a:ext cx="13366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in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bal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When all is said and d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rief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a nutsh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conclu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o sum 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97160" y="368280"/>
              <a:ext cx="26020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n idea can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0" idx="4"/>
              <a:endCxn id="116" idx="0"/>
            </p:cNvCxnSpPr>
            <p:nvPr/>
          </p:nvCxnSpPr>
          <p:spPr>
            <a:xfrm>
              <a:off x="4498920" y="977400"/>
              <a:ext cx="22550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"/>
            <p:cNvCxnSpPr>
              <a:stCxn id="120" idx="4"/>
              <a:endCxn id="118" idx="0"/>
            </p:cNvCxnSpPr>
            <p:nvPr/>
          </p:nvCxnSpPr>
          <p:spPr>
            <a:xfrm>
              <a:off x="4498920" y="977400"/>
              <a:ext cx="81216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>
              <a:stCxn id="120" idx="4"/>
              <a:endCxn id="110" idx="0"/>
            </p:cNvCxnSpPr>
            <p:nvPr/>
          </p:nvCxnSpPr>
          <p:spPr>
            <a:xfrm flipH="1">
              <a:off x="3867840" y="977400"/>
              <a:ext cx="63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>
              <a:stCxn id="120" idx="4"/>
              <a:endCxn id="114" idx="0"/>
            </p:cNvCxnSpPr>
            <p:nvPr/>
          </p:nvCxnSpPr>
          <p:spPr>
            <a:xfrm>
              <a:off x="4498560" y="977400"/>
              <a:ext cx="373140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>
              <a:stCxn id="120" idx="4"/>
              <a:endCxn id="108" idx="0"/>
            </p:cNvCxnSpPr>
            <p:nvPr/>
          </p:nvCxnSpPr>
          <p:spPr>
            <a:xfrm flipH="1">
              <a:off x="913680" y="977400"/>
              <a:ext cx="35852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20" idx="4"/>
              <a:endCxn id="112" idx="0"/>
            </p:cNvCxnSpPr>
            <p:nvPr/>
          </p:nvCxnSpPr>
          <p:spPr>
            <a:xfrm flipH="1">
              <a:off x="2391840" y="977400"/>
              <a:ext cx="21074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>
              <a:stCxn id="108" idx="2"/>
              <a:endCxn id="109" idx="0"/>
            </p:cNvCxnSpPr>
            <p:nvPr/>
          </p:nvCxnSpPr>
          <p:spPr>
            <a:xfrm>
              <a:off x="91404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12" idx="2"/>
              <a:endCxn id="113" idx="0"/>
            </p:cNvCxnSpPr>
            <p:nvPr/>
          </p:nvCxnSpPr>
          <p:spPr>
            <a:xfrm>
              <a:off x="239184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10" idx="2"/>
              <a:endCxn id="111" idx="0"/>
            </p:cNvCxnSpPr>
            <p:nvPr/>
          </p:nvCxnSpPr>
          <p:spPr>
            <a:xfrm>
              <a:off x="386820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18" idx="2"/>
              <a:endCxn id="119" idx="0"/>
            </p:cNvCxnSpPr>
            <p:nvPr/>
          </p:nvCxnSpPr>
          <p:spPr>
            <a:xfrm>
              <a:off x="531000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16" idx="2"/>
              <a:endCxn id="117" idx="0"/>
            </p:cNvCxnSpPr>
            <p:nvPr/>
          </p:nvCxnSpPr>
          <p:spPr>
            <a:xfrm>
              <a:off x="675288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14" idx="2"/>
              <a:endCxn id="115" idx="0"/>
            </p:cNvCxnSpPr>
            <p:nvPr/>
          </p:nvCxnSpPr>
          <p:spPr>
            <a:xfrm>
              <a:off x="822924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949720"/>
            <a:ext cx="7772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Les expressions de recommandation anglo-saxonnes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Degrés d’insist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924200" y="503280"/>
            <a:ext cx="5879520" cy="5255640"/>
            <a:chOff x="1924200" y="503280"/>
            <a:chExt cx="5879520" cy="5255640"/>
          </a:xfrm>
        </p:grpSpPr>
        <p:sp>
          <p:nvSpPr>
            <p:cNvPr id="135" name=""/>
            <p:cNvSpPr/>
            <p:nvPr/>
          </p:nvSpPr>
          <p:spPr>
            <a:xfrm>
              <a:off x="1924200" y="4247640"/>
              <a:ext cx="184752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n auditor would like to see corrective action ta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86120" y="425268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would be desirable 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24200" y="1655280"/>
              <a:ext cx="1847520" cy="25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n auditor needs to request corrective 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86120" y="164592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would be best 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24200" y="509400"/>
              <a:ext cx="1847520" cy="11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n auditor needs to insist strongly on corrective 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86120" y="503280"/>
              <a:ext cx="2391840" cy="42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is imperative t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08400" y="2429280"/>
              <a:ext cx="895320" cy="85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ithout f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mphatical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solute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gorous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ong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86120" y="931680"/>
              <a:ext cx="2391840" cy="31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is necessary t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86120" y="394776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po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86120" y="2374560"/>
              <a:ext cx="2391840" cy="33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ongly recomm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86120" y="27284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qu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86120" y="303336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sk you to consi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86120" y="36428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dvi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333828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r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6120" y="486216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ould li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86120" y="516708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gg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86120" y="45572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cou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6120" y="1942920"/>
              <a:ext cx="239184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mm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86120" y="1265040"/>
              <a:ext cx="2391840" cy="38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ongly recommend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86120" y="54716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sk you to consi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4584600"/>
            <a:ext cx="61214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Les expressions de recommandation anglo-saxonnes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Degrés d’urg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27640" y="2533320"/>
            <a:ext cx="1928880" cy="161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mediate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ithout further d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the short-t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apid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y the end of the 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efore the next financial 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s soon as poss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y the year-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the medium-t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the long-t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02:01Z</dcterms:created>
  <dc:creator>HPM</dc:creator>
  <dc:description/>
  <dc:language>en-US</dc:language>
  <cp:lastModifiedBy>rochas</cp:lastModifiedBy>
  <dcterms:modified xsi:type="dcterms:W3CDTF">2006-08-03T10:04:09Z</dcterms:modified>
  <cp:revision>79</cp:revision>
  <dc:subject/>
  <dc:title>Présentation PowerPoint</dc:title>
</cp:coreProperties>
</file>